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989B-FA4F-4690-A311-4A5E2AE9979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1572-ABBA-4CAC-A456-313EFBADA87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5C02-70A9-490E-B0D4-E7F0AC270E7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FB90-658B-4357-9399-78B0FACA52D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DF68-A0AD-4BCA-854F-62B5A127D5E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B4DA-2EA1-4302-BBEA-6C55D21CEAD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0C37-E077-49CC-88CA-785577373A6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45AF-8B96-476C-8888-1AB499D0A2B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4977-8E45-410A-9628-388C7EB04EA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DA10-4B39-4E28-8BD0-16083E61B44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3614-373E-4FE2-A8FE-010BE4BA67D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5081-E141-440C-9CAE-9F07BCDCBDC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4878-E412-4D57-A5B5-436D05E7BE8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6C09-FD9D-412D-8606-EE0BF117476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0DC0-1AFA-48B0-87CA-B9092E74563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3BF3-B209-4B1C-ADF6-95107C74820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4FB0-240A-4CB0-A6D8-F87852908A2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67B2-9896-4184-BC37-0898443A704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4EFF-0114-4917-B2C7-F02EE1538DD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E4B8-420D-4402-8207-9A1C9957346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6941-A44C-4E02-A68A-E6B2AC896E2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0A8E-B41A-445B-B4A5-54487B540B0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AC1A-F92B-45AD-B0D4-E19DFC12DA8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0811-F157-459A-8D1A-85163D7412E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5683-A9CC-4AF9-B04F-703ACF0FA37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BFD4-1565-4399-9385-7B81688D9F0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BA1E-DF3D-4181-8E69-7427C409648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585A-18C0-4CE0-9C21-FD8427DC5B1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5737-DE54-4B19-9D61-CEB18182132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7811-C4EF-4AB6-BAF2-B05B6A09AE1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D812-CECA-4F45-B72E-595F3E929C5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86FD-5231-41F5-A44E-EE2ED596891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DB61-E2CF-435E-ACC8-CFA21E52E1D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6C58-6FD8-4158-8490-5C3678111BB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300C-C2BE-4400-8A3E-47A30655A18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0DD1-1239-49C5-B86C-40CC04910A9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D0F2-E8AC-4143-99F0-08658057E7B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0704-CCDE-4D12-BFB0-4C7EA457709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63F9-0323-4F9F-8A18-BA1CE0AC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7621-D091-4383-8470-6B7A9886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57EB-B9C3-42D6-ACD6-EF386394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3704-8522-46BF-966E-84169CD0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7825-154A-49B1-9835-78885E4C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70B6-C65E-4BCF-BA9E-121D67D1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9863-EF08-496B-917E-7044E6BB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F7B3-0FED-4195-9E15-2FB6A648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E34F-7CCD-4415-952A-01FD9D1D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E03F-C411-496F-B857-36D4B855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8E4F-B954-4DAF-BA42-478E1E4C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933B-5BD9-47D1-A032-88C4D5F0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3A0F-21E8-4ABE-9B60-B6481892BC5B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喜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ǐhua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좋아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羽毛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yǔmáoqiú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배드민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차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足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úqiú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축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游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yóuyǒng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수영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今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īnniá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올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ā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추측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将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ānglá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장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ǎ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하고 싶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做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uò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하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当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ā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运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yùndòng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운동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医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yīshēng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의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汉语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ànyǔ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중국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ué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배우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á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어렵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有意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ǒuyìs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재미있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周末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zhōum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주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旅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ǚxí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여행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护士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ùsh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간호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翻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āny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통역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爬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á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오르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打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ǎ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운동을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하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太极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502320"/>
            <a:ext cx="6264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tàijíquán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태극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chà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노래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中国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781320"/>
            <a:ext cx="6264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000000"/>
                </a:solidFill>
                <a:latin typeface="Arial"/>
              </a:rPr>
              <a:t>Zhōngguógē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중국 노래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做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uò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만들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泡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àoc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김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厨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úsh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요리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棒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à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대단하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乒乓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805440"/>
            <a:ext cx="62643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pīngpāngqiú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탁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会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u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할 줄 알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ā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279760"/>
            <a:ext cx="6381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전수하다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가르치다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问题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ènt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문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篮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ánqiú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농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棒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bàngqiú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야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06:17:04Z</dcterms:created>
  <dc:creator>System</dc:creator>
  <dc:description/>
  <dc:language>en-US</dc:language>
  <cp:lastModifiedBy>System</cp:lastModifiedBy>
  <dcterms:modified xsi:type="dcterms:W3CDTF">2014-01-24T06:53:43Z</dcterms:modified>
  <cp:revision>4</cp:revision>
  <dc:subject/>
  <dc:title>슬라이드 1</dc:title>
</cp:coreProperties>
</file>